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3124-EE7C-4566-94A7-581863F6A1A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0319-FD2F-4E5D-A967-8386C8FB3BCA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943-042A-473A-BD84-C8F04757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5DB-B223-4EA7-B066-3CC85DB5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67B-7438-48E5-B6CA-4BB82CBF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8CD-4826-4B4D-856C-B313E3ED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439B-41D9-457F-8192-5F178E68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4433-BDA9-4330-B9E2-CB2DFE7E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BB82-0411-46D2-8780-307B2797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92F4-1098-4122-BA96-82CCBA02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F640-0A1C-4D51-B6A1-FCBBE77C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F08A-1E4B-4E17-9BCE-D3E401F8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12B6-2A4E-4FE6-AB6F-D6830408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0D0-6C01-46FC-AA4C-C55A77D7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E993-A30C-4C4E-89AE-05973E48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E45A-50E6-4147-B799-C1777D88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7C99-4082-4E40-BDB9-6A8BC66A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38FD-F545-4089-82D1-589FED25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4724-ABD3-44D4-8E31-3808DF21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69C-A1E4-4DFC-A8C8-2BC772EC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9DC-1B54-4199-B3E6-27E0B922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F4E-19EC-4DA6-9EF5-6A89BB1D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D35-6E67-4F75-A791-8EE4CC2D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DFB-D4F2-402C-9957-65C62FF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E7F-F8EE-41DA-A244-7B7E9A64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04D-36BF-416A-BB66-13067C90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458F-0EB1-451C-A780-D12AE5532B0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3681-A7A4-45ED-8A53-FBF33F2B09FA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y of Atomic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276720" y="3645000"/>
            <a:ext cx="3095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5" descr="Image result for atomic model"/>
          <p:cNvPicPr/>
          <p:nvPr/>
        </p:nvPicPr>
        <p:blipFill>
          <a:blip r:embed="rId1"/>
          <a:stretch/>
        </p:blipFill>
        <p:spPr>
          <a:xfrm>
            <a:off x="2987640" y="2637000"/>
            <a:ext cx="2571840" cy="28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Image result for atomic model"/>
          <p:cNvPicPr/>
          <p:nvPr/>
        </p:nvPicPr>
        <p:blipFill>
          <a:blip r:embed="rId2"/>
          <a:stretch/>
        </p:blipFill>
        <p:spPr>
          <a:xfrm>
            <a:off x="324000" y="2936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Image result for atomic model schrodinger"/>
          <p:cNvPicPr/>
          <p:nvPr/>
        </p:nvPicPr>
        <p:blipFill>
          <a:blip r:embed="rId3"/>
          <a:stretch/>
        </p:blipFill>
        <p:spPr>
          <a:xfrm>
            <a:off x="6084720" y="2911320"/>
            <a:ext cx="2590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My Documents\School\sc9\thomson model.gif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752480" y="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m-Pudding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6400800"/>
            <a:ext cx="47242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C:\My Documents\School\sc9\rutherford.jpg"/>
          <p:cNvPicPr/>
          <p:nvPr/>
        </p:nvPicPr>
        <p:blipFill>
          <a:blip r:embed="rId1"/>
          <a:stretch/>
        </p:blipFill>
        <p:spPr>
          <a:xfrm>
            <a:off x="2789280" y="1847880"/>
            <a:ext cx="3662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Gold Foil (Geiger Muller) Exper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nest Rutherford proposed shooting alpha particles at extremely thin gold f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went right through with little deflection, but some bounced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sult was thought to be like cannon balls bouncing off tissue pap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ttps://upload.wikimedia.org/wikipedia/commons/thumb/f/f9/Geiger-Marsden_experiment_expectation_and_result.svg/1024px-Geiger-Marsden_experiment_expectation_and_result.svg.png"/>
          <p:cNvPicPr/>
          <p:nvPr/>
        </p:nvPicPr>
        <p:blipFill>
          <a:blip r:embed="rId1"/>
          <a:stretch/>
        </p:blipFill>
        <p:spPr>
          <a:xfrm>
            <a:off x="1193760" y="692280"/>
            <a:ext cx="625320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particles should be undeflected but observed to bounce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alpha particles must have bounced off an area of the atom that is positively charged and extremely de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therford concluded that the atom has a dense positive nucleus with electrons orbiting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therford Model of the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Image result for rutherford model"/>
          <p:cNvPicPr/>
          <p:nvPr/>
        </p:nvPicPr>
        <p:blipFill>
          <a:blip r:embed="rId1"/>
          <a:stretch/>
        </p:blipFill>
        <p:spPr>
          <a:xfrm>
            <a:off x="539640" y="1197000"/>
            <a:ext cx="7620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iels Boh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C:\My Documents\School\sc9\bohr.jpg"/>
          <p:cNvPicPr/>
          <p:nvPr/>
        </p:nvPicPr>
        <p:blipFill>
          <a:blip r:embed="rId1"/>
          <a:stretch/>
        </p:blipFill>
        <p:spPr>
          <a:xfrm>
            <a:off x="4114800" y="765000"/>
            <a:ext cx="40132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Model 19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(electromagnetic radiation) is emitted from matter at particular energies, or quanta (from Planck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produced when electrons move from high energy states to low energy states. E=h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ctrons exist in particular orbi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ttps://upload.wikimedia.org/wikipedia/commons/thumb/a/a5/Bohr_atom_model_English.svg/420px-Bohr_atom_model_English.svg.png"/>
          <p:cNvPicPr/>
          <p:nvPr/>
        </p:nvPicPr>
        <p:blipFill>
          <a:blip r:embed="rId1"/>
          <a:stretch/>
        </p:blipFill>
        <p:spPr>
          <a:xfrm>
            <a:off x="1403280" y="115920"/>
            <a:ext cx="59054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Image result for de broglie atomic theory"/>
          <p:cNvPicPr/>
          <p:nvPr/>
        </p:nvPicPr>
        <p:blipFill>
          <a:blip r:embed="rId1"/>
          <a:stretch/>
        </p:blipFill>
        <p:spPr>
          <a:xfrm>
            <a:off x="-27000" y="-206280"/>
            <a:ext cx="9631440" cy="72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Related image"/>
          <p:cNvPicPr/>
          <p:nvPr/>
        </p:nvPicPr>
        <p:blipFill>
          <a:blip r:embed="rId1"/>
          <a:stretch/>
        </p:blipFill>
        <p:spPr>
          <a:xfrm>
            <a:off x="-1260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age result for kanada atomic theory"/>
          <p:cNvPicPr/>
          <p:nvPr/>
        </p:nvPicPr>
        <p:blipFill>
          <a:blip r:embed="rId2"/>
          <a:stretch/>
        </p:blipFill>
        <p:spPr>
          <a:xfrm>
            <a:off x="4356000" y="2492280"/>
            <a:ext cx="19195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Image result for de broglie atomic theory"/>
          <p:cNvPicPr/>
          <p:nvPr/>
        </p:nvPicPr>
        <p:blipFill>
          <a:blip r:embed="rId1"/>
          <a:stretch/>
        </p:blipFill>
        <p:spPr>
          <a:xfrm>
            <a:off x="28440" y="0"/>
            <a:ext cx="900756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68360" y="260280"/>
            <a:ext cx="763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Broglie said that electrons act like waves.  Waves resonate if the frequency is just right for the  container (musical instrumen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bital is the container for the electron and only certain orbitals will work for electrons of a certain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velength of a particl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h/p plank’s constant divided by its moment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Broglie derived this relationship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=hf, the energy of a photon and p=E/c =h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momentum of a photon so that the wave-particle duality that Einstein applied to photons also applied to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um Mechanics shows how there is a limit to our ability to determine the motion and position of particles. (Heisenberg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on of objects is described using a wave equation,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here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probability distribution of the object.  Graphing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an electron around the hydrogen atom we obtain orbital shapes. (Schrödinge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Image result for orbitals s p d f"/>
          <p:cNvPicPr/>
          <p:nvPr/>
        </p:nvPicPr>
        <p:blipFill>
          <a:blip r:embed="rId1"/>
          <a:stretch/>
        </p:blipFill>
        <p:spPr>
          <a:xfrm>
            <a:off x="-1440" y="0"/>
            <a:ext cx="9294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Image result for atomic model schrodinger"/>
          <p:cNvPicPr/>
          <p:nvPr/>
        </p:nvPicPr>
        <p:blipFill>
          <a:blip r:embed="rId1"/>
          <a:stretch/>
        </p:blipFill>
        <p:spPr>
          <a:xfrm>
            <a:off x="1619280" y="944640"/>
            <a:ext cx="6265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dwick 1931 discovered that the nucleus contains protons and neu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and neutrons are composed of quarks (1964 Gell-Mann and Zweig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rong force between the quarks is what holds the nucleus together and produces massive amounts of energy in a nuclear reac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ide the Nucle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 P584 Q 1.1-1.4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Image result for atomic model schrodinger"/>
          <p:cNvPicPr/>
          <p:nvPr/>
        </p:nvPicPr>
        <p:blipFill>
          <a:blip r:embed="rId1"/>
          <a:stretch/>
        </p:blipFill>
        <p:spPr>
          <a:xfrm>
            <a:off x="324000" y="1760400"/>
            <a:ext cx="8256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2" descr="Related image"/>
          <p:cNvPicPr/>
          <p:nvPr/>
        </p:nvPicPr>
        <p:blipFill>
          <a:blip r:embed="rId1"/>
          <a:stretch/>
        </p:blipFill>
        <p:spPr>
          <a:xfrm>
            <a:off x="4473720" y="765000"/>
            <a:ext cx="4373280" cy="411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Related image"/>
          <p:cNvPicPr/>
          <p:nvPr/>
        </p:nvPicPr>
        <p:blipFill>
          <a:blip r:embed="rId2"/>
          <a:stretch/>
        </p:blipFill>
        <p:spPr>
          <a:xfrm>
            <a:off x="20520" y="765000"/>
            <a:ext cx="4238640" cy="44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9760" y="25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Image result for history of atom"/>
          <p:cNvPicPr/>
          <p:nvPr/>
        </p:nvPicPr>
        <p:blipFill>
          <a:blip r:embed="rId1"/>
          <a:stretch/>
        </p:blipFill>
        <p:spPr>
          <a:xfrm>
            <a:off x="179280" y="-100080"/>
            <a:ext cx="6077160" cy="4562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395280" y="414360"/>
            <a:ext cx="7983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08600" y="898200"/>
            <a:ext cx="4486320" cy="22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mocritus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460-360 BC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lated image"/>
          <p:cNvPicPr/>
          <p:nvPr/>
        </p:nvPicPr>
        <p:blipFill>
          <a:blip r:embed="rId1"/>
          <a:stretch/>
        </p:blipFill>
        <p:spPr>
          <a:xfrm>
            <a:off x="108000" y="115920"/>
            <a:ext cx="4800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41400" y="307800"/>
            <a:ext cx="910260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ings are composed of minute, invisible and indivisible particles, atoma, (indivisibles) in constant motion through otherwise empty space, keno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240" y="1988640"/>
            <a:ext cx="5135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d against atomic theory and believed everything was composed of the 5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y influential for 200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Image result for aristotle"/>
          <p:cNvPicPr/>
          <p:nvPr/>
        </p:nvPicPr>
        <p:blipFill>
          <a:blip r:embed="rId1"/>
          <a:stretch/>
        </p:blipFill>
        <p:spPr>
          <a:xfrm>
            <a:off x="5148360" y="37476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lton 1800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98108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s are composed of elements combined together in certain propor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iard b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of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Image result for john dalton billiard ball model"/>
          <p:cNvPicPr/>
          <p:nvPr/>
        </p:nvPicPr>
        <p:blipFill>
          <a:blip r:embed="rId1"/>
          <a:stretch/>
        </p:blipFill>
        <p:spPr>
          <a:xfrm>
            <a:off x="4896000" y="6480"/>
            <a:ext cx="4032000" cy="40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mage result for john dalton billiard ball model"/>
          <p:cNvPicPr/>
          <p:nvPr/>
        </p:nvPicPr>
        <p:blipFill>
          <a:blip r:embed="rId2"/>
          <a:stretch/>
        </p:blipFill>
        <p:spPr>
          <a:xfrm>
            <a:off x="3995640" y="418140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Content Placeholder 5" descr="Image result for dalton atomic model"/>
          <p:cNvPicPr/>
          <p:nvPr/>
        </p:nvPicPr>
        <p:blipFill>
          <a:blip r:embed="rId1"/>
          <a:stretch/>
        </p:blipFill>
        <p:spPr>
          <a:xfrm>
            <a:off x="108000" y="1571760"/>
            <a:ext cx="8761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r Joseph John Thomson 19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d the nature of cathode 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noticed that they had particle like properties and were identical regardless of the material producing the ray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mage result for jj thomson"/>
          <p:cNvPicPr/>
          <p:nvPr/>
        </p:nvPicPr>
        <p:blipFill>
          <a:blip r:embed="rId1"/>
          <a:stretch/>
        </p:blipFill>
        <p:spPr>
          <a:xfrm>
            <a:off x="5076720" y="1125360"/>
            <a:ext cx="34340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um-Pudding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rd Kelvin and JJ Thomson concluded that the atom was composed of tiny negatively charged electrons and positive charge mixed together. This was called the Plum-Pudding Mode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0:47:02Z</dcterms:created>
  <dc:creator>Sir Winston Churchill Secondary</dc:creator>
  <dc:description/>
  <dc:language>en-US</dc:language>
  <cp:lastModifiedBy>Adam Mathew Klaassen</cp:lastModifiedBy>
  <dcterms:modified xsi:type="dcterms:W3CDTF">2017-02-15T23:32:22Z</dcterms:modified>
  <cp:revision>52</cp:revision>
  <dc:subject/>
  <dc:title>Sir Joseph John Thompson</dc:title>
</cp:coreProperties>
</file>